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camera.wav" ContentType="audio/x-wav"/>
  <Override PartName="/ppt/media/image7.jpeg" ContentType="image/jpeg"/>
  <Override PartName="/ppt/media/breeze.wav" ContentType="audio/x-wav"/>
  <Override PartName="/ppt/media/whoosh.wav" ContentType="audio/x-wav"/>
  <Override PartName="/ppt/media/image3.jpeg" ContentType="image/jpeg"/>
  <Override PartName="/ppt/media/applause.wav" ContentType="audio/x-wav"/>
  <Override PartName="/ppt/media/image4.jpeg" ContentType="image/jpeg"/>
  <Override PartName="/ppt/media/laser.wav" ContentType="audio/x-wav"/>
  <Override PartName="/ppt/media/image5.jpeg" ContentType="image/jpeg"/>
  <Override PartName="/ppt/media/chimes.wav" ContentType="audio/x-wav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9D4-C10A-4745-9B62-4E5617D2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6C0-1CAD-49D7-BDF6-C14F4016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7DF-8653-4274-A249-EB6D7295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0F2-92B2-4B2A-937B-324ED3F7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905-C8D3-4804-ACE9-A778E8D7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898-4B4E-4D12-ABE0-80D67ADA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A87-1D58-4713-942E-DA12F4A3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EF0-D87E-454E-A58C-9C2FB328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4B1-3335-4C33-A3C0-FA54D822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92A-0514-47CD-88CE-CFB8AFF2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A6B-95B1-4166-8F13-7BF5FF4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6C7-2C6A-4BE2-99A4-55F817B7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D555-0047-4A8E-B562-39D4CF3BD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ational-symbol.com/S/Senegal/senegal-flag.gif&amp;imgrefurl=http://www.national-symbol.com/S/Senegal/Senegal-national-symbol.htm&amp;h=333&amp;w=500&amp;sz=4&amp;hl=en&amp;start=56&amp;usg=__fH1DMhMTYVo_SVYcA6Tgks0x-do=&amp;tbnid=hihytVEkhdwhZM:&amp;tbnh=87&amp;tbnw=130&amp;prev=/images%3Fq%3Dflag%2Bof%2Bsenegal%26start%3D54%26gbv%3D2%26ndsp%3D18%26hl%3Den%26sa%3DN" TargetMode="External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buildllc.files.wordpress.com/2007/12/09_20_fish700847.jpg&amp;imgrefurl=http://blog.buildllc.com/2007/12/10/the-year-in-ideas-diagrams/&amp;usg=__1We-H6Oy9j7SApUjkZ8yIn_eaik=&amp;h=484&amp;w=400&amp;sz=196&amp;hl=en&amp;start=1&amp;tbnid=VD7jdUUDimZ5LM:&amp;tbnh=129&amp;tbnw=107&amp;prev=/images%3Fq%3Dpictures%2Bof%2Bdifferent%2Bfish%26gbv%3D2%26hl%3Den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n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er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-30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egal is located in the western part of Africa.  This state is just of the coast of the Atlantic Oc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egal’s flag is </a:t>
            </a:r>
            <a:r>
              <a:rPr b="0" lang="en-US" sz="3200" spc="-1" strike="noStrike">
                <a:solidFill>
                  <a:srgbClr val="3d8f39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a </a:t>
            </a:r>
            <a:r>
              <a:rPr b="0" lang="en-US" sz="3200" spc="-1" strike="noStrike">
                <a:solidFill>
                  <a:srgbClr val="3d8f39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d8f39"/>
                </a:solidFill>
                <a:latin typeface="Arial"/>
              </a:rPr>
              <a:t>sta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iddle of the yellow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3352680"/>
            <a:ext cx="28195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negal’s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February 1, 1982 Senegal joined with The Gambia to form the nominal confederation of Senegamb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visaged interagation of two countrieswas never carried out and the union was dissolved in 198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n named Abdou Diouf was president between 1981-2000. he encouraged broader politicalparticio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dou Diouf  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194148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it’s more 45 years as an independent state, Senegal has been politically st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tructure is- Federal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- Abdoulaye W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 Minister- Cheikh Hadjibou Sou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s and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, groundnuts (peanuts), phosphates, petroleum products, and co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ken, Chinese milk, food and beverages, and capital g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4410000"/>
            <a:ext cx="203040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629400" y="4762440"/>
            <a:ext cx="2514600" cy="209556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5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3:01:38Z</dcterms:created>
  <dc:creator>amberhall</dc:creator>
  <dc:description/>
  <dc:language>en-US</dc:language>
  <cp:lastModifiedBy>amberhall</cp:lastModifiedBy>
  <dcterms:modified xsi:type="dcterms:W3CDTF">2008-11-13T16:38:40Z</dcterms:modified>
  <cp:revision>13</cp:revision>
  <dc:subject/>
  <dc:title>Senegal</dc:title>
</cp:coreProperties>
</file>